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8DA8C-5495-409A-B8A3-2DF2F8F707F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C7004-34D2-414A-8BFC-C1406716D25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C4B85-F49E-41DE-A667-CBBAF26FCBA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A2C39-F8BF-495A-9E7A-620AA7BE549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实际家庭收入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家庭总收入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转移性收入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财政补贴后的家庭收入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家庭总收入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社会保障支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E220F-FA70-4D84-88B4-D337F1B215E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实际家庭收入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家庭总收入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转移性收入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财政补贴后的家庭收入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家庭总收入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社会保障支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C3A5F-97B8-423A-A367-0549720E7FD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2E6AD-626D-45E1-B92D-DA1C0311CDE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081DB-C025-4803-B73B-006612407E4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3C0E-AB2A-4BB3-AB40-22747C847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6E3A-7DC9-4F8F-A442-70AE16AA0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B5E0-9885-444C-B64E-DB0A361BC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4539-25F3-4359-86D7-708ADD993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2B55-4FE6-46F2-8896-0DE5A7DB7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371F-2228-4083-B3AA-AA6E89A48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4A90-BE87-4C43-946F-832883F7B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F286-45CA-4996-8AF1-8CD495629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275F-1B60-4241-A5C3-E84F0FD24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E379-6DD1-4844-B6D2-A30D1E4B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5322-A74F-4A76-B900-D1E118ED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357F-CFA0-41DC-AAE3-F2A165E5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39A0F-2ABF-4E4B-A6F1-384FF5E18CF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6696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Regulations, Policies and Income Inequality in China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00280" y="3601800"/>
            <a:ext cx="77184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Xinye Zhe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fessor of Economi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nmin University of Chi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on-residential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ell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rookings Instit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4"/>
          <p:cNvSpPr/>
          <p:nvPr/>
        </p:nvSpPr>
        <p:spPr>
          <a:xfrm>
            <a:off x="819000" y="6386400"/>
            <a:ext cx="424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资料来源：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ld Bank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ECD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及作者整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na’s income inequality in global context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4" name="图表 3" descr=""/>
          <p:cNvPicPr/>
          <p:nvPr/>
        </p:nvPicPr>
        <p:blipFill>
          <a:blip r:embed="rId1"/>
          <a:stretch/>
        </p:blipFill>
        <p:spPr>
          <a:xfrm>
            <a:off x="244440" y="1359000"/>
            <a:ext cx="86313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4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 Light"/>
              </a:rPr>
              <a:t>2</a:t>
            </a:r>
            <a:r>
              <a:rPr b="0" lang="zh-CN" sz="4800" spc="-1" strike="noStrike">
                <a:solidFill>
                  <a:srgbClr val="000000"/>
                </a:solidFill>
                <a:latin typeface="Calibri Light"/>
              </a:rPr>
              <a:t>、</a:t>
            </a:r>
            <a:r>
              <a:rPr b="0" lang="en-US" sz="4800" spc="-1" strike="noStrike">
                <a:solidFill>
                  <a:srgbClr val="000000"/>
                </a:solidFill>
                <a:latin typeface="Calibri Light"/>
              </a:rPr>
              <a:t>Understanding China Income Inquality 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独有的原因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access to high profit indust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bor discrimin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bor standards, Environmental stand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perty ownership prot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xes and expenditures mak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行</a:t>
            </a:r>
            <a:r>
              <a:rPr b="0" lang="zh-CN" sz="2800" spc="-1" strike="noStrike">
                <a:solidFill>
                  <a:srgbClr val="000000"/>
                </a:solidFill>
                <a:latin typeface="Calibri Light"/>
              </a:rPr>
              <a:t>业准入限制、就业歧视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’s difficult to enter high profit indust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scriminations low income people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高利润、高工资行业对低收入群体就业歧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" name="Group 8"/>
          <p:cNvGrpSpPr/>
          <p:nvPr/>
        </p:nvGrpSpPr>
        <p:grpSpPr>
          <a:xfrm>
            <a:off x="973080" y="3571920"/>
            <a:ext cx="7196040" cy="2582640"/>
            <a:chOff x="973080" y="3571920"/>
            <a:chExt cx="7196040" cy="2582640"/>
          </a:xfrm>
        </p:grpSpPr>
        <p:sp>
          <p:nvSpPr>
            <p:cNvPr id="81" name="MH_Text_2"/>
            <p:cNvSpPr/>
            <p:nvPr/>
          </p:nvSpPr>
          <p:spPr>
            <a:xfrm>
              <a:off x="6345360" y="4657320"/>
              <a:ext cx="1823760" cy="10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14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年，金融业和电力、燃气及水的生产和供应业月工资分别为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023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元和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112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元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2" name="Group 10"/>
            <p:cNvGrpSpPr/>
            <p:nvPr/>
          </p:nvGrpSpPr>
          <p:grpSpPr>
            <a:xfrm>
              <a:off x="973080" y="3571920"/>
              <a:ext cx="5276880" cy="2582640"/>
              <a:chOff x="973080" y="3571920"/>
              <a:chExt cx="5276880" cy="2582640"/>
            </a:xfrm>
          </p:grpSpPr>
          <p:sp>
            <p:nvSpPr>
              <p:cNvPr id="83" name="MH_Other_1"/>
              <p:cNvSpPr/>
              <p:nvPr/>
            </p:nvSpPr>
            <p:spPr>
              <a:xfrm>
                <a:off x="3971880" y="3921120"/>
                <a:ext cx="1090440" cy="2233440"/>
              </a:xfrm>
              <a:custGeom>
                <a:avLst/>
                <a:gdLst/>
                <a:ahLst/>
                <a:rect l="l" t="t" r="r" b="b"/>
                <a:pathLst>
                  <a:path w="865" h="1828">
                    <a:moveTo>
                      <a:pt x="432" y="0"/>
                    </a:moveTo>
                    <a:lnTo>
                      <a:pt x="561" y="828"/>
                    </a:lnTo>
                    <a:lnTo>
                      <a:pt x="561" y="1539"/>
                    </a:lnTo>
                    <a:lnTo>
                      <a:pt x="648" y="1539"/>
                    </a:lnTo>
                    <a:lnTo>
                      <a:pt x="864" y="1658"/>
                    </a:lnTo>
                    <a:lnTo>
                      <a:pt x="864" y="1827"/>
                    </a:lnTo>
                    <a:lnTo>
                      <a:pt x="0" y="1827"/>
                    </a:lnTo>
                    <a:lnTo>
                      <a:pt x="0" y="1674"/>
                    </a:lnTo>
                    <a:lnTo>
                      <a:pt x="172" y="1556"/>
                    </a:lnTo>
                    <a:lnTo>
                      <a:pt x="273" y="1556"/>
                    </a:lnTo>
                    <a:lnTo>
                      <a:pt x="273" y="828"/>
                    </a:lnTo>
                    <a:lnTo>
                      <a:pt x="432" y="0"/>
                    </a:lnTo>
                  </a:path>
                </a:pathLst>
              </a:custGeom>
              <a:gradFill rotWithShape="0">
                <a:gsLst>
                  <a:gs pos="0">
                    <a:srgbClr val="9dc3e6"/>
                  </a:gs>
                  <a:gs pos="100000">
                    <a:srgbClr val="5b9b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9840" rIns="69840" tIns="34920" bIns="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" name="MH_Other_2"/>
              <p:cNvSpPr/>
              <p:nvPr/>
            </p:nvSpPr>
            <p:spPr>
              <a:xfrm>
                <a:off x="3274920" y="3571920"/>
                <a:ext cx="2571840" cy="963360"/>
              </a:xfrm>
              <a:custGeom>
                <a:avLst/>
                <a:gdLst/>
                <a:ahLst/>
                <a:rect l="l" t="t" r="r" b="b"/>
                <a:pathLst>
                  <a:path w="2042" h="789">
                    <a:moveTo>
                      <a:pt x="0" y="788"/>
                    </a:moveTo>
                    <a:lnTo>
                      <a:pt x="2041" y="78"/>
                    </a:lnTo>
                    <a:lnTo>
                      <a:pt x="1996" y="0"/>
                    </a:lnTo>
                    <a:lnTo>
                      <a:pt x="985" y="178"/>
                    </a:lnTo>
                    <a:lnTo>
                      <a:pt x="834" y="230"/>
                    </a:lnTo>
                    <a:lnTo>
                      <a:pt x="8" y="682"/>
                    </a:lnTo>
                    <a:lnTo>
                      <a:pt x="0" y="788"/>
                    </a:lnTo>
                  </a:path>
                </a:pathLst>
              </a:custGeom>
              <a:gradFill rotWithShape="0">
                <a:gsLst>
                  <a:gs pos="0">
                    <a:srgbClr val="bdd7ee"/>
                  </a:gs>
                  <a:gs pos="100000">
                    <a:srgbClr val="9dc3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9840" rIns="69840" tIns="34920" bIns="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MH_Other_3"/>
              <p:cNvSpPr/>
              <p:nvPr/>
            </p:nvSpPr>
            <p:spPr>
              <a:xfrm>
                <a:off x="4449960" y="3889080"/>
                <a:ext cx="134640" cy="129960"/>
              </a:xfrm>
              <a:prstGeom prst="ellipse">
                <a:avLst/>
              </a:prstGeom>
              <a:gradFill rotWithShape="0">
                <a:gsLst>
                  <a:gs pos="0">
                    <a:srgbClr val="5b9bd5"/>
                  </a:gs>
                  <a:gs pos="100000">
                    <a:srgbClr val="2e75b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9840" rIns="69840" tIns="34920" bIns="34920" anchor="ctr">
                <a:no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" name="MH_Other_4"/>
              <p:cNvSpPr/>
              <p:nvPr/>
            </p:nvSpPr>
            <p:spPr>
              <a:xfrm>
                <a:off x="5759640" y="3692520"/>
                <a:ext cx="463320" cy="1109520"/>
              </a:xfrm>
              <a:prstGeom prst="line">
                <a:avLst/>
              </a:prstGeom>
              <a:ln w="3240">
                <a:solidFill>
                  <a:srgbClr val="9dc3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9840" rIns="69840" tIns="34920" bIns="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MH_Other_5"/>
              <p:cNvSpPr/>
              <p:nvPr/>
            </p:nvSpPr>
            <p:spPr>
              <a:xfrm>
                <a:off x="5749920" y="3692520"/>
                <a:ext cx="0" cy="1103040"/>
              </a:xfrm>
              <a:prstGeom prst="line">
                <a:avLst/>
              </a:prstGeom>
              <a:ln w="3240">
                <a:solidFill>
                  <a:srgbClr val="9dc3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9840" rIns="69840" tIns="34920" bIns="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" name="MH_Other_6"/>
              <p:cNvSpPr/>
              <p:nvPr/>
            </p:nvSpPr>
            <p:spPr>
              <a:xfrm flipH="1">
                <a:off x="5262480" y="3695400"/>
                <a:ext cx="482400" cy="1074600"/>
              </a:xfrm>
              <a:prstGeom prst="line">
                <a:avLst/>
              </a:prstGeom>
              <a:ln w="3240">
                <a:solidFill>
                  <a:srgbClr val="9dc3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9840" rIns="69840" tIns="34920" bIns="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" name="MH_SubTitle_2"/>
              <p:cNvSpPr/>
              <p:nvPr/>
            </p:nvSpPr>
            <p:spPr>
              <a:xfrm>
                <a:off x="5205600" y="4776840"/>
                <a:ext cx="1044360" cy="336240"/>
              </a:xfrm>
              <a:prstGeom prst="pie">
                <a:avLst/>
              </a:prstGeom>
              <a:gradFill rotWithShape="0">
                <a:gsLst>
                  <a:gs pos="0">
                    <a:srgbClr val="ed7d31"/>
                  </a:gs>
                  <a:gs pos="100000">
                    <a:srgbClr val="843c0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36000" anchor="ctr">
                <a:no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门槛高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" name="MH_Other_7"/>
              <p:cNvSpPr/>
              <p:nvPr/>
            </p:nvSpPr>
            <p:spPr>
              <a:xfrm>
                <a:off x="3395520" y="4489200"/>
                <a:ext cx="461880" cy="1108080"/>
              </a:xfrm>
              <a:prstGeom prst="line">
                <a:avLst/>
              </a:prstGeom>
              <a:ln w="3240">
                <a:solidFill>
                  <a:srgbClr val="9dc3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9840" rIns="69840" tIns="34920" bIns="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" name="MH_Other_8"/>
              <p:cNvSpPr/>
              <p:nvPr/>
            </p:nvSpPr>
            <p:spPr>
              <a:xfrm>
                <a:off x="3387600" y="4489200"/>
                <a:ext cx="0" cy="1101600"/>
              </a:xfrm>
              <a:prstGeom prst="line">
                <a:avLst/>
              </a:prstGeom>
              <a:ln w="3240">
                <a:solidFill>
                  <a:srgbClr val="9dc3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9840" rIns="69840" tIns="34920" bIns="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" name="MH_Other_9"/>
              <p:cNvSpPr/>
              <p:nvPr/>
            </p:nvSpPr>
            <p:spPr>
              <a:xfrm flipH="1">
                <a:off x="2892240" y="4491000"/>
                <a:ext cx="488880" cy="1081080"/>
              </a:xfrm>
              <a:prstGeom prst="line">
                <a:avLst/>
              </a:prstGeom>
              <a:ln w="3240">
                <a:solidFill>
                  <a:srgbClr val="9dc3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9840" rIns="69840" tIns="34920" bIns="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" name="MH_SubTitle_1"/>
              <p:cNvSpPr/>
              <p:nvPr/>
            </p:nvSpPr>
            <p:spPr>
              <a:xfrm>
                <a:off x="2841480" y="5572080"/>
                <a:ext cx="1046160" cy="336240"/>
              </a:xfrm>
              <a:prstGeom prst="pie">
                <a:avLst/>
              </a:prstGeom>
              <a:gradFill rotWithShape="0">
                <a:gsLst>
                  <a:gs pos="0">
                    <a:srgbClr val="ed7d31"/>
                  </a:gs>
                  <a:gs pos="100000">
                    <a:srgbClr val="843c0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36000" anchor="ctr">
                <a:no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门槛低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" name="MH_Text_1"/>
              <p:cNvSpPr/>
              <p:nvPr/>
            </p:nvSpPr>
            <p:spPr>
              <a:xfrm>
                <a:off x="973080" y="4953600"/>
                <a:ext cx="182412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014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年，建筑业、住宿餐饮业月工资分别为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817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元和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105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元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表 5" descr=""/>
          <p:cNvPicPr/>
          <p:nvPr/>
        </p:nvPicPr>
        <p:blipFill>
          <a:blip r:embed="rId1"/>
          <a:stretch/>
        </p:blipFill>
        <p:spPr>
          <a:xfrm>
            <a:off x="644400" y="1224000"/>
            <a:ext cx="7713720" cy="51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4"/>
          <p:cNvSpPr/>
          <p:nvPr/>
        </p:nvSpPr>
        <p:spPr>
          <a:xfrm>
            <a:off x="819000" y="6386400"/>
            <a:ext cx="305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资料来源：历年中国统计年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收入水平的比较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—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zh-CN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行业收入年均实际增速比较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996-2013)</a:t>
            </a:r>
            <a:endParaRPr b="0" lang="en-US" sz="29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8" name="Chart 5" descr=""/>
          <p:cNvPicPr/>
          <p:nvPr/>
        </p:nvPicPr>
        <p:blipFill>
          <a:blip r:embed="rId1"/>
          <a:stretch/>
        </p:blipFill>
        <p:spPr>
          <a:xfrm>
            <a:off x="817560" y="1689120"/>
            <a:ext cx="816768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高</a:t>
            </a:r>
            <a:r>
              <a:rPr b="0" lang="zh-CN" sz="3000" spc="-1" strike="noStrike">
                <a:solidFill>
                  <a:srgbClr val="000000"/>
                </a:solidFill>
                <a:latin typeface="Calibri Light"/>
              </a:rPr>
              <a:t>收入群体增收以低收入群体受损为代价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28560" y="1396800"/>
            <a:ext cx="7886880" cy="47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人们的收入来源有三：（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）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abor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）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ductive asset, land etc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，（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）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et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abor  standards, environmental standards,  damage to the labor productivity in the future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劳动收入能力：较低的环保和劳工标准→威胁健康、职业病→未来劳动回报率降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and , pollution is bad for land productivity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资产收入能力：制造业扩张的环境污染和、资源和矿产开采危及其产出能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rbanization, Land-taking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房地产开发征地和拆迁剥夺资产增值机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文本框 3"/>
          <p:cNvSpPr/>
          <p:nvPr/>
        </p:nvSpPr>
        <p:spPr>
          <a:xfrm>
            <a:off x="257040" y="231840"/>
            <a:ext cx="686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劳动收入能力与资产收入能力（面板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固定效应模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0-2012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图片 1" descr=""/>
          <p:cNvPicPr/>
          <p:nvPr/>
        </p:nvPicPr>
        <p:blipFill>
          <a:blip r:embed="rId1"/>
          <a:stretch/>
        </p:blipFill>
        <p:spPr>
          <a:xfrm>
            <a:off x="257040" y="763560"/>
            <a:ext cx="837720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Taxes and expenditures make inequality worse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104" name="Group 8"/>
          <p:cNvGrpSpPr/>
          <p:nvPr/>
        </p:nvGrpSpPr>
        <p:grpSpPr>
          <a:xfrm>
            <a:off x="938160" y="2065320"/>
            <a:ext cx="7075440" cy="3295800"/>
            <a:chOff x="938160" y="2065320"/>
            <a:chExt cx="7075440" cy="3295800"/>
          </a:xfrm>
        </p:grpSpPr>
        <p:sp>
          <p:nvSpPr>
            <p:cNvPr id="105" name="MH_SubTitle_1"/>
            <p:cNvSpPr/>
            <p:nvPr/>
          </p:nvSpPr>
          <p:spPr>
            <a:xfrm>
              <a:off x="3641760" y="2074680"/>
              <a:ext cx="1224000" cy="1871640"/>
            </a:xfrm>
            <a:prstGeom prst="pi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2880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财政收入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MH_SubTitle_2"/>
            <p:cNvSpPr/>
            <p:nvPr/>
          </p:nvSpPr>
          <p:spPr>
            <a:xfrm>
              <a:off x="4051080" y="3483000"/>
              <a:ext cx="1224000" cy="1871640"/>
            </a:xfrm>
            <a:prstGeom prst="pie">
              <a:avLst/>
            </a:prstGeom>
            <a:solidFill>
              <a:srgbClr val="2e75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1800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财政支出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MH_Other_1"/>
            <p:cNvSpPr/>
            <p:nvPr/>
          </p:nvSpPr>
          <p:spPr>
            <a:xfrm flipH="1">
              <a:off x="3641040" y="3483000"/>
              <a:ext cx="409320" cy="463320"/>
            </a:xfrm>
            <a:prstGeom prst="rtTriangle">
              <a:avLst/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MH_Text_1"/>
            <p:cNvSpPr/>
            <p:nvPr/>
          </p:nvSpPr>
          <p:spPr>
            <a:xfrm>
              <a:off x="938160" y="2095200"/>
              <a:ext cx="2435040" cy="294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0" bIns="90000" anchor="t">
              <a:noAutofit/>
            </a:bodyPr>
            <a:p>
              <a:pPr algn="just">
                <a:lnSpc>
                  <a:spcPct val="13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</a:rPr>
                <a:t>主要讨论个人所得税、企业所得税、增值税和消费税等对收入分配的影响。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MH_Text_2"/>
            <p:cNvSpPr/>
            <p:nvPr/>
          </p:nvSpPr>
          <p:spPr>
            <a:xfrm>
              <a:off x="5541840" y="2266920"/>
              <a:ext cx="2471760" cy="308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0" bIns="90000" anchor="b">
              <a:noAutofit/>
            </a:bodyPr>
            <a:p>
              <a:pPr algn="just">
                <a:lnSpc>
                  <a:spcPct val="13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</a:rPr>
                <a:t>主要讨论社会保障支出、公共服务支出、教育支出、住房保障支出等对收入分配的影响。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MH_Other_2"/>
            <p:cNvSpPr/>
            <p:nvPr/>
          </p:nvSpPr>
          <p:spPr>
            <a:xfrm flipH="1">
              <a:off x="5578200" y="5361120"/>
              <a:ext cx="2398680" cy="0"/>
            </a:xfrm>
            <a:prstGeom prst="line">
              <a:avLst/>
            </a:prstGeom>
            <a:ln w="44280">
              <a:solidFill>
                <a:srgbClr val="2e75b6">
                  <a:alpha val="9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MH_Other_3"/>
            <p:cNvSpPr/>
            <p:nvPr/>
          </p:nvSpPr>
          <p:spPr>
            <a:xfrm flipH="1">
              <a:off x="956520" y="2065320"/>
              <a:ext cx="2398680" cy="0"/>
            </a:xfrm>
            <a:prstGeom prst="line">
              <a:avLst/>
            </a:prstGeom>
            <a:ln w="4428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表 1" descr=""/>
          <p:cNvPicPr/>
          <p:nvPr/>
        </p:nvPicPr>
        <p:blipFill>
          <a:blip r:embed="rId1"/>
          <a:stretch/>
        </p:blipFill>
        <p:spPr>
          <a:xfrm>
            <a:off x="755640" y="1914480"/>
            <a:ext cx="7924680" cy="39686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EC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国家财政政策调节效果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4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 Light"/>
              </a:rPr>
              <a:t>1, Income Inequality in China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507960" y="1355760"/>
          <a:ext cx="7734240" cy="4083120"/>
        </p:xfrm>
        <a:graphic>
          <a:graphicData uri="http://schemas.openxmlformats.org/drawingml/2006/table">
            <a:tbl>
              <a:tblPr/>
              <a:tblGrid>
                <a:gridCol w="1322280"/>
                <a:gridCol w="1235160"/>
                <a:gridCol w="1160640"/>
                <a:gridCol w="1290600"/>
                <a:gridCol w="1350720"/>
                <a:gridCol w="1374840"/>
              </a:tblGrid>
              <a:tr h="419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国家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税前基尼（</a:t>
                      </a:r>
                      <a:r>
                        <a:rPr b="1" lang="en-US" sz="11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r>
                        <a:rPr b="1" lang="zh-CN" sz="11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税后基尼（</a:t>
                      </a:r>
                      <a:r>
                        <a:rPr b="1" lang="en-US" sz="11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r>
                        <a:rPr b="1" lang="zh-CN" sz="11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【（</a:t>
                      </a:r>
                      <a:r>
                        <a:rPr b="1" lang="en-US" sz="11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r>
                        <a:rPr b="1" lang="zh-CN" sz="11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）</a:t>
                      </a:r>
                      <a:r>
                        <a:rPr b="1" lang="en-US" sz="11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r>
                        <a:rPr b="1" lang="zh-CN" sz="11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（</a:t>
                      </a:r>
                      <a:r>
                        <a:rPr b="1" lang="en-US" sz="11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r>
                        <a:rPr b="1" lang="zh-CN" sz="11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）】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【（</a:t>
                      </a:r>
                      <a:r>
                        <a:rPr b="1" lang="en-US" sz="11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r>
                        <a:rPr b="1" lang="zh-CN" sz="11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）</a:t>
                      </a:r>
                      <a:r>
                        <a:rPr b="1" lang="en-US" sz="11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r>
                        <a:rPr b="1" lang="zh-CN" sz="11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（</a:t>
                      </a:r>
                      <a:r>
                        <a:rPr b="1" lang="en-US" sz="11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r>
                        <a:rPr b="1" lang="zh-CN" sz="11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）】</a:t>
                      </a:r>
                      <a:r>
                        <a:rPr b="1" lang="en-US" sz="11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/(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平均税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比利时</a:t>
                      </a:r>
                      <a:r>
                        <a:rPr b="1" lang="en-US" sz="14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(199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0.29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0.23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0.06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21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0.20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d3dfee"/>
                    </a:solidFill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丹麦</a:t>
                      </a:r>
                      <a:r>
                        <a:rPr b="1" lang="en-US" sz="14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(198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0.30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0.27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0.03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1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0.29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芬兰</a:t>
                      </a:r>
                      <a:r>
                        <a:rPr b="1" lang="en-US" sz="14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(199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0.26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0.22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0.04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16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0.21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fee"/>
                    </a:solidFill>
                  </a:tcPr>
                </a:tc>
              </a:tr>
              <a:tr h="284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法国</a:t>
                      </a:r>
                      <a:r>
                        <a:rPr b="1" lang="en-US" sz="14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(198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0.32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0.30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0.01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4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0.06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德国</a:t>
                      </a:r>
                      <a:r>
                        <a:rPr b="1" lang="en-US" sz="14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(198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0.25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0.23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0.02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1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0.11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fee"/>
                    </a:solidFill>
                  </a:tcPr>
                </a:tc>
              </a:tr>
              <a:tr h="266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爱尔兰</a:t>
                      </a:r>
                      <a:r>
                        <a:rPr b="1" lang="en-US" sz="14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(198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0.38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0.34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0.04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1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0.15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意大利</a:t>
                      </a:r>
                      <a:r>
                        <a:rPr b="1" lang="en-US" sz="14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(199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0.32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0.3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0.02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7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0.13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fee"/>
                    </a:solidFill>
                  </a:tcPr>
                </a:tc>
              </a:tr>
              <a:tr h="284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荷兰</a:t>
                      </a:r>
                      <a:r>
                        <a:rPr b="1" lang="en-US" sz="14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(199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0.28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0.25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0.03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11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0.14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西班牙</a:t>
                      </a:r>
                      <a:r>
                        <a:rPr b="1" lang="en-US" sz="14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(199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0.40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0.36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0.03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9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0.13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fee"/>
                    </a:solidFill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瑞典</a:t>
                      </a:r>
                      <a:r>
                        <a:rPr b="1" lang="en-US" sz="14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(199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0.3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0.26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0.03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13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0.32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瑞士</a:t>
                      </a:r>
                      <a:r>
                        <a:rPr b="1" lang="en-US" sz="14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(199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0.27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0.25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0.01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6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0.1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fee"/>
                    </a:solidFill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英国</a:t>
                      </a:r>
                      <a:r>
                        <a:rPr b="1" lang="en-US" sz="14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(199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0.41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0.37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0.03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8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0.14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美国</a:t>
                      </a:r>
                      <a:r>
                        <a:rPr b="1" lang="en-US" sz="14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(198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0.40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0.36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0.03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9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0.13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3dfee"/>
                    </a:solidFill>
                  </a:tcPr>
                </a:tc>
              </a:tr>
            </a:tbl>
          </a:graphicData>
        </a:graphic>
      </p:graphicFrame>
      <p:sp>
        <p:nvSpPr>
          <p:cNvPr id="115" name="Rectangle 1"/>
          <p:cNvSpPr/>
          <p:nvPr/>
        </p:nvSpPr>
        <p:spPr>
          <a:xfrm>
            <a:off x="507960" y="542160"/>
            <a:ext cx="782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Taxes and expenditures are important tools reducing income inequalit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来源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Verbist (2002)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和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Wagstaff et al. (1999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1"/>
          <p:cNvGrpSpPr/>
          <p:nvPr/>
        </p:nvGrpSpPr>
        <p:grpSpPr>
          <a:xfrm>
            <a:off x="1762200" y="1898640"/>
            <a:ext cx="5654520" cy="725400"/>
            <a:chOff x="1762200" y="1898640"/>
            <a:chExt cx="5654520" cy="725400"/>
          </a:xfrm>
        </p:grpSpPr>
        <p:sp>
          <p:nvSpPr>
            <p:cNvPr id="117" name="MH_Other_7"/>
            <p:cNvSpPr/>
            <p:nvPr/>
          </p:nvSpPr>
          <p:spPr>
            <a:xfrm>
              <a:off x="1762200" y="2011320"/>
              <a:ext cx="488880" cy="487440"/>
            </a:xfrm>
            <a:prstGeom prst="rect">
              <a:avLst/>
            </a:prstGeom>
            <a:solidFill>
              <a:srgbClr val="bdd7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erlin Sans FB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MH_Other_8"/>
            <p:cNvSpPr/>
            <p:nvPr/>
          </p:nvSpPr>
          <p:spPr>
            <a:xfrm>
              <a:off x="2255760" y="1903320"/>
              <a:ext cx="0" cy="720720"/>
            </a:xfrm>
            <a:prstGeom prst="line">
              <a:avLst/>
            </a:prstGeom>
            <a:ln w="28440">
              <a:solidFill>
                <a:srgbClr val="bdd7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MH_SubTitle_1"/>
            <p:cNvSpPr/>
            <p:nvPr/>
          </p:nvSpPr>
          <p:spPr>
            <a:xfrm>
              <a:off x="2270160" y="1898640"/>
              <a:ext cx="514656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现有财政政策安排不利于改善收入分配差距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</a:rPr>
                <a:t>居民收入差距存在且较为严重，财政政策调节作用因省而异，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</a:rPr>
                <a:t>但总体上财政政策恶化收入分配情形较多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0" name="Group 3"/>
          <p:cNvGrpSpPr/>
          <p:nvPr/>
        </p:nvGrpSpPr>
        <p:grpSpPr>
          <a:xfrm>
            <a:off x="1744560" y="3027240"/>
            <a:ext cx="5656320" cy="722520"/>
            <a:chOff x="1744560" y="3027240"/>
            <a:chExt cx="5656320" cy="722520"/>
          </a:xfrm>
        </p:grpSpPr>
        <p:sp>
          <p:nvSpPr>
            <p:cNvPr id="121" name="MH_Other_1"/>
            <p:cNvSpPr/>
            <p:nvPr/>
          </p:nvSpPr>
          <p:spPr>
            <a:xfrm>
              <a:off x="1744560" y="3136680"/>
              <a:ext cx="488880" cy="487440"/>
            </a:xfrm>
            <a:prstGeom prst="rect">
              <a:avLst/>
            </a:prstGeom>
            <a:solidFill>
              <a:srgbClr val="9dc3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erlin Sans FB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MH_Other_2"/>
            <p:cNvSpPr/>
            <p:nvPr/>
          </p:nvSpPr>
          <p:spPr>
            <a:xfrm>
              <a:off x="2238120" y="3028680"/>
              <a:ext cx="0" cy="721080"/>
            </a:xfrm>
            <a:prstGeom prst="line">
              <a:avLst/>
            </a:prstGeom>
            <a:ln w="28440">
              <a:solidFill>
                <a:srgbClr val="9dc3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MH_SubTitle_2"/>
            <p:cNvSpPr/>
            <p:nvPr/>
          </p:nvSpPr>
          <p:spPr>
            <a:xfrm>
              <a:off x="2253960" y="3027240"/>
              <a:ext cx="514692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个人所得税对收入分配调节作用有限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</a:rPr>
                <a:t>个人所得税所占比重过低，个人所得税税基过窄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4"/>
          <p:cNvGrpSpPr/>
          <p:nvPr/>
        </p:nvGrpSpPr>
        <p:grpSpPr>
          <a:xfrm>
            <a:off x="1763640" y="4073400"/>
            <a:ext cx="5421240" cy="720720"/>
            <a:chOff x="1763640" y="4073400"/>
            <a:chExt cx="5421240" cy="720720"/>
          </a:xfrm>
        </p:grpSpPr>
        <p:sp>
          <p:nvSpPr>
            <p:cNvPr id="125" name="MH_Other_3"/>
            <p:cNvSpPr/>
            <p:nvPr/>
          </p:nvSpPr>
          <p:spPr>
            <a:xfrm>
              <a:off x="1763640" y="4179600"/>
              <a:ext cx="488880" cy="488880"/>
            </a:xfrm>
            <a:prstGeom prst="rect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erlin Sans FB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MH_Other_4"/>
            <p:cNvSpPr/>
            <p:nvPr/>
          </p:nvSpPr>
          <p:spPr>
            <a:xfrm>
              <a:off x="2257200" y="4073400"/>
              <a:ext cx="0" cy="72072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MH_SubTitle_3"/>
            <p:cNvSpPr/>
            <p:nvPr/>
          </p:nvSpPr>
          <p:spPr>
            <a:xfrm>
              <a:off x="2280960" y="4073400"/>
              <a:ext cx="490392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社会保障支出与社会支出恶化收入分配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</a:rPr>
                <a:t>累退性支出，高收入群体并未支出与其收入相匹配的社会保障支出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</a:rPr>
                <a:t>“</a:t>
              </a:r>
              <a:r>
                <a:rPr b="0" lang="zh-CN" sz="1600" spc="-1" strike="noStrike">
                  <a:solidFill>
                    <a:srgbClr val="000000"/>
                  </a:solidFill>
                  <a:latin typeface="宋体"/>
                </a:rPr>
                <a:t>把矮个子垫高”方面成效不彰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" name="Group 5"/>
          <p:cNvGrpSpPr/>
          <p:nvPr/>
        </p:nvGrpSpPr>
        <p:grpSpPr>
          <a:xfrm>
            <a:off x="1762200" y="5121360"/>
            <a:ext cx="5848200" cy="720720"/>
            <a:chOff x="1762200" y="5121360"/>
            <a:chExt cx="5848200" cy="720720"/>
          </a:xfrm>
        </p:grpSpPr>
        <p:sp>
          <p:nvSpPr>
            <p:cNvPr id="129" name="MH_Other_5"/>
            <p:cNvSpPr/>
            <p:nvPr/>
          </p:nvSpPr>
          <p:spPr>
            <a:xfrm>
              <a:off x="1762200" y="5227560"/>
              <a:ext cx="488880" cy="488880"/>
            </a:xfrm>
            <a:prstGeom prst="rect">
              <a:avLst/>
            </a:prstGeom>
            <a:solidFill>
              <a:srgbClr val="2e75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erlin Sans FB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MH_Other_6"/>
            <p:cNvSpPr/>
            <p:nvPr/>
          </p:nvSpPr>
          <p:spPr>
            <a:xfrm>
              <a:off x="2255760" y="5121360"/>
              <a:ext cx="0" cy="720720"/>
            </a:xfrm>
            <a:prstGeom prst="line">
              <a:avLst/>
            </a:prstGeom>
            <a:ln w="28440">
              <a:solidFill>
                <a:srgbClr val="2e75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MH_SubTitle_4"/>
            <p:cNvSpPr/>
            <p:nvPr/>
          </p:nvSpPr>
          <p:spPr>
            <a:xfrm>
              <a:off x="2281320" y="5130720"/>
              <a:ext cx="532908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资本存量收入恶化了城镇居民贫富差异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</a:rPr>
                <a:t>高收入群体更有可能取得资本存量收入，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</a:rPr>
                <a:t>但股利、红利等在税率上被优待，缺少遗产税和赠与税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2" name="Title 1"/>
          <p:cNvSpPr/>
          <p:nvPr/>
        </p:nvSpPr>
        <p:spPr>
          <a:xfrm>
            <a:off x="630360" y="363600"/>
            <a:ext cx="788652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 Light"/>
              </a:rPr>
              <a:t>中国财政政策对收入分配调节的特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 Light"/>
              </a:rPr>
              <a:t>影响居民收入分配差距的因素分解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 ——</a:t>
            </a:r>
            <a:r>
              <a:rPr b="0" lang="zh-CN" sz="2800" spc="-1" strike="noStrike">
                <a:solidFill>
                  <a:srgbClr val="000000"/>
                </a:solidFill>
                <a:latin typeface="Calibri Light"/>
              </a:rPr>
              <a:t>每一类收入的贫富差距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68360" y="1511280"/>
          <a:ext cx="8280360" cy="5219640"/>
        </p:xfrm>
        <a:graphic>
          <a:graphicData uri="http://schemas.openxmlformats.org/drawingml/2006/table">
            <a:tbl>
              <a:tblPr/>
              <a:tblGrid>
                <a:gridCol w="771480"/>
                <a:gridCol w="781200"/>
                <a:gridCol w="849240"/>
                <a:gridCol w="809640"/>
                <a:gridCol w="761760"/>
                <a:gridCol w="820800"/>
                <a:gridCol w="1020960"/>
                <a:gridCol w="1349280"/>
                <a:gridCol w="1116000"/>
              </a:tblGrid>
              <a:tr h="380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grid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可支配收入的贫富差距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最高收入户的该类收入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最低收入户的该类收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政策前贫富差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政府补助后贫富差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政策后贫富差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81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劳动性收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资本存量收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转移性收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个人所得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社会保障支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实际家庭收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财政补贴后的家庭收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可支配收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63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北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07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03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1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陕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.15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.18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62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重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.73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.76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2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安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.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.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.08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.10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61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宁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9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.45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.49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2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江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1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3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2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61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河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.06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.11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3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新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.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.34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.38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62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湖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42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45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2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广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48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54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61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辽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.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9.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0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7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2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福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.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3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.21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61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江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5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2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3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黑龙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.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78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92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62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浙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.93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.94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2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青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.53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.61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61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西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.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16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25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Light"/>
              </a:rPr>
              <a:t>Chinese Policies Make Gini Coefficient even Bigger 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68360" y="1511280"/>
          <a:ext cx="8280360" cy="5219640"/>
        </p:xfrm>
        <a:graphic>
          <a:graphicData uri="http://schemas.openxmlformats.org/drawingml/2006/table">
            <a:tbl>
              <a:tblPr/>
              <a:tblGrid>
                <a:gridCol w="749160"/>
                <a:gridCol w="1112760"/>
                <a:gridCol w="1111320"/>
                <a:gridCol w="1111320"/>
                <a:gridCol w="993960"/>
                <a:gridCol w="865080"/>
                <a:gridCol w="993600"/>
                <a:gridCol w="1343160"/>
              </a:tblGrid>
              <a:tr h="903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实际家庭收入基尼系数（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INI1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财政补贴后的家庭收入基尼系数（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INI2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可支配收入基尼系数（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INI3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财政补贴、补助影响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GINI2-GINI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税收政策影响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GINI3-GINI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全部财政政策影响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GINI3-GINI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财政政策影响相对值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(GINI3-GINI1)*100/GINI1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254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广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.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8.5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53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西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.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.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.8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4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北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.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.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.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.6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53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福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.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.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.4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4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江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.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.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.2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52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重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.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.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4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江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.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.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9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53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辽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.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.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1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4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湖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8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53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安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.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.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.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6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4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黑龙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.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.4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53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浙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.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.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.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.5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4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陕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.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.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.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.9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54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河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.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.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.4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3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新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6.3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54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宁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.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.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.8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3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青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.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.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.7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55320" y="355680"/>
            <a:ext cx="8435880" cy="143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税收和转移支付在降低收入不平等上的作用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EC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国家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以后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-162000" y="1816200"/>
          <a:ext cx="9136080" cy="3727440"/>
        </p:xfrm>
        <a:graphic>
          <a:graphicData uri="http://schemas.openxmlformats.org/drawingml/2006/table">
            <a:tbl>
              <a:tblPr/>
              <a:tblGrid>
                <a:gridCol w="1576440"/>
                <a:gridCol w="2519280"/>
                <a:gridCol w="2521080"/>
                <a:gridCol w="2519280"/>
              </a:tblGrid>
              <a:tr h="640440"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国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调整前的基尼系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调整后的基尼系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改善效果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*[(1)-(2)]/(1)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85560"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爱尔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.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85920"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奥地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.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87360"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斯洛伐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85920"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英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.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85560"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澳大利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85920"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爱沙尼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85560"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荷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85200"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新西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.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C:\Users\guojing\AppData\Local\Temp\ksohtml\wps_clip_image-11973.png"/>
          <p:cNvPicPr/>
          <p:nvPr/>
        </p:nvPicPr>
        <p:blipFill>
          <a:blip r:embed="rId1"/>
          <a:stretch/>
        </p:blipFill>
        <p:spPr>
          <a:xfrm>
            <a:off x="0" y="457200"/>
            <a:ext cx="8889840" cy="63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C:\Users\guojing\AppData\Local\Temp\ksohtml\wps_clip_image-12068.png"/>
          <p:cNvPicPr/>
          <p:nvPr/>
        </p:nvPicPr>
        <p:blipFill>
          <a:blip r:embed="rId1"/>
          <a:stretch/>
        </p:blipFill>
        <p:spPr>
          <a:xfrm>
            <a:off x="685800" y="12600"/>
            <a:ext cx="843588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Policies Make income inequality worse 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42" name="图表 2" descr=""/>
          <p:cNvPicPr/>
          <p:nvPr/>
        </p:nvPicPr>
        <p:blipFill>
          <a:blip r:embed="rId1"/>
          <a:stretch/>
        </p:blipFill>
        <p:spPr>
          <a:xfrm>
            <a:off x="457200" y="1116000"/>
            <a:ext cx="8375760" cy="48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Personal income tax plays small role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44" name="图表 2" descr=""/>
          <p:cNvPicPr/>
          <p:nvPr/>
        </p:nvPicPr>
        <p:blipFill>
          <a:blip r:embed="rId1"/>
          <a:stretch/>
        </p:blipFill>
        <p:spPr>
          <a:xfrm>
            <a:off x="523800" y="871560"/>
            <a:ext cx="813276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Unemployment insurance China vs US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46" name="图表 2" descr=""/>
          <p:cNvPicPr/>
          <p:nvPr/>
        </p:nvPicPr>
        <p:blipFill>
          <a:blip r:embed="rId1"/>
          <a:stretch/>
        </p:blipFill>
        <p:spPr>
          <a:xfrm>
            <a:off x="291960" y="950760"/>
            <a:ext cx="8510760" cy="50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773280" y="569880"/>
          <a:ext cx="7380000" cy="6002280"/>
        </p:xfrm>
        <a:graphic>
          <a:graphicData uri="http://schemas.openxmlformats.org/drawingml/2006/table">
            <a:tbl>
              <a:tblPr/>
              <a:tblGrid>
                <a:gridCol w="1230120"/>
                <a:gridCol w="1230480"/>
                <a:gridCol w="1377720"/>
                <a:gridCol w="1081080"/>
                <a:gridCol w="1230480"/>
                <a:gridCol w="1230120"/>
              </a:tblGrid>
              <a:tr h="35244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ovi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ha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osi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ovi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ha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osi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036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hejia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.3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中间偏下收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吉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.3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中间偏上收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5244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上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6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中间偏下收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黑龙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.2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中间偏上收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5388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天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.3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中间偏下收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湖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.7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中间偏上收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5244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广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.4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中间收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河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.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中间偏上收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5244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北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.8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中间收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海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.4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中间偏上收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5244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西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.3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中间收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云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.9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中间偏上收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5244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福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.5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中间收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河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.9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中间偏上收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5244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山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.9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中间收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广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.3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中间偏上收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5244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江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.2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中间收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安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.6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中间偏上收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5244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四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.9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中间偏上收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新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.9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高收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5244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重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.9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中间偏上收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山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.2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高收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5388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贵州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.8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中间偏上收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江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.6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高收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5244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辽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.9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中间偏上收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青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.5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高收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5244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陕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.0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中间偏上收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宁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.0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高收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5244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内蒙古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.8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中间偏上收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湖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.4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高收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5244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甘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.5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中间偏上收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52" name="TextBox 5"/>
          <p:cNvSpPr/>
          <p:nvPr/>
        </p:nvSpPr>
        <p:spPr>
          <a:xfrm>
            <a:off x="495360" y="190440"/>
            <a:ext cx="702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es of Populations earn less than 3000 RMB Per Month, 2011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773280" y="6572160"/>
            <a:ext cx="432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资料来源：作者依据各省统计年鉴计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1900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Unemployment insurance as share of government size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48" name="图表 2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15280" cy="49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 Light"/>
              </a:rPr>
              <a:t>全国合计</a:t>
            </a: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1100</a:t>
            </a:r>
            <a:r>
              <a:rPr b="0" lang="zh-CN" sz="4000" spc="-1" strike="noStrike">
                <a:solidFill>
                  <a:srgbClr val="000000"/>
                </a:solidFill>
                <a:latin typeface="Calibri Light"/>
              </a:rPr>
              <a:t>万个家庭， </a:t>
            </a: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2093</a:t>
            </a:r>
            <a:r>
              <a:rPr b="0" lang="zh-CN" sz="4000" spc="-1" strike="noStrike">
                <a:solidFill>
                  <a:srgbClr val="000000"/>
                </a:solidFill>
                <a:latin typeface="Calibri Light"/>
              </a:rPr>
              <a:t>万人</a:t>
            </a: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Calibri Light"/>
              </a:rPr>
              <a:t>约</a:t>
            </a: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700</a:t>
            </a:r>
            <a:r>
              <a:rPr b="0" lang="zh-CN" sz="4000" spc="-1" strike="noStrike">
                <a:solidFill>
                  <a:srgbClr val="000000"/>
                </a:solidFill>
                <a:latin typeface="Calibri Light"/>
              </a:rPr>
              <a:t>亿，</a:t>
            </a: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238</a:t>
            </a:r>
            <a:r>
              <a:rPr b="0" lang="zh-CN" sz="4000" spc="-1" strike="noStrike">
                <a:solidFill>
                  <a:srgbClr val="000000"/>
                </a:solidFill>
                <a:latin typeface="Calibri Light"/>
              </a:rPr>
              <a:t>元，</a:t>
            </a: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18</a:t>
            </a:r>
            <a:r>
              <a:rPr b="0" lang="zh-CN" sz="4000" spc="-1" strike="noStrike">
                <a:solidFill>
                  <a:srgbClr val="000000"/>
                </a:solidFill>
                <a:latin typeface="Calibri Light"/>
              </a:rPr>
              <a:t>斤猪肉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24000" y="1484280"/>
          <a:ext cx="8496000" cy="4786200"/>
        </p:xfrm>
        <a:graphic>
          <a:graphicData uri="http://schemas.openxmlformats.org/drawingml/2006/table">
            <a:tbl>
              <a:tblPr/>
              <a:tblGrid>
                <a:gridCol w="1415880"/>
                <a:gridCol w="1416240"/>
                <a:gridCol w="1415880"/>
                <a:gridCol w="1415880"/>
                <a:gridCol w="1416240"/>
                <a:gridCol w="1415880"/>
              </a:tblGrid>
              <a:tr h="12286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地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70ad47"/>
                      </a:solidFill>
                    </a:lnL>
                    <a:lnR>
                      <a:noFill/>
                    </a:lnR>
                    <a:lnT w="2880">
                      <a:solidFill>
                        <a:srgbClr val="70ad47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城市最低生活保障人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70ad47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城市最低生活保障家庭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70ad47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城市最低生活保障累计支出（万元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70ad47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城市最低生活保障支出水平（元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70ad47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购买的猪肉数量（斤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70ad47"/>
                      </a:solidFill>
                    </a:lnR>
                    <a:lnT w="2880">
                      <a:solidFill>
                        <a:srgbClr val="70ad47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融安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70ad47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2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.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70ad47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改则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70ad47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.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70ad47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电白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70ad47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8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7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6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.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70ad47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船山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70ad47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,6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2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0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.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70ad47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安多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70ad47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.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70ad47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布尔津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70ad47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3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7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1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.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70ad47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徐闻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70ad47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9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8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70ad47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阿勒泰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70ad47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7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5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4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.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70ad47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茂南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70ad47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0ad47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0ad47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0ad47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0ad47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.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0ad47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70ad47"/>
                      </a:solidFill>
                    </a:lnR>
                    <a:lnT>
                      <a:noFill/>
                    </a:lnT>
                    <a:lnB w="2880">
                      <a:solidFill>
                        <a:srgbClr val="70ad4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农村低保水平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11280" y="1197000"/>
          <a:ext cx="8064360" cy="4968720"/>
        </p:xfrm>
        <a:graphic>
          <a:graphicData uri="http://schemas.openxmlformats.org/drawingml/2006/table">
            <a:tbl>
              <a:tblPr/>
              <a:tblGrid>
                <a:gridCol w="1506600"/>
                <a:gridCol w="1798560"/>
                <a:gridCol w="1141200"/>
                <a:gridCol w="1143000"/>
                <a:gridCol w="1143000"/>
                <a:gridCol w="1332000"/>
              </a:tblGrid>
              <a:tr h="1270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地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4472c4"/>
                      </a:solidFill>
                    </a:lnL>
                    <a:lnR>
                      <a:noFill/>
                    </a:lnR>
                    <a:lnT w="2880">
                      <a:solidFill>
                        <a:srgbClr val="4472c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村最低生活保障人数 （人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472c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农村最低生活保障家庭数（个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472c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农村最低生活保障累计支出（万元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472c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农村最低生活保障支出水平（元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472c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每月买的猪肉（市斤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4472c4"/>
                      </a:solidFill>
                    </a:lnR>
                    <a:lnT w="2880">
                      <a:solidFill>
                        <a:srgbClr val="4472c4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8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南召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4472c4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7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5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4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4472c4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8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融安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4472c4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6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9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4472c4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84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牧野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4472c4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.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4472c4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册亨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4472c4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6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9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5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.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4472c4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8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镇宁布依族苗族自治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4472c4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3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8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90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.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4472c4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84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惠农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4472c4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5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.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4472c4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8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沈丘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4472c4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5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0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.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4472c4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8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湖滨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4472c4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6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4472c4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6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乐都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4472c4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.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4472c4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8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平塘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4472c4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1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7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.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4472c4"/>
                      </a:solidFill>
                    </a:lnR>
                    <a:lnT>
                      <a:noFill/>
                    </a:lnT>
                    <a:lnB w="2880">
                      <a:solidFill>
                        <a:srgbClr val="4472c4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Welfare program in China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54" name="图表 2" descr=""/>
          <p:cNvPicPr/>
          <p:nvPr/>
        </p:nvPicPr>
        <p:blipFill>
          <a:blip r:embed="rId1"/>
          <a:stretch/>
        </p:blipFill>
        <p:spPr>
          <a:xfrm>
            <a:off x="420840" y="1206360"/>
            <a:ext cx="808992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Welfare program 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723960" y="1044720"/>
          <a:ext cx="8001000" cy="4492440"/>
        </p:xfrm>
        <a:graphic>
          <a:graphicData uri="http://schemas.openxmlformats.org/drawingml/2006/table">
            <a:tbl>
              <a:tblPr/>
              <a:tblGrid>
                <a:gridCol w="1644480"/>
                <a:gridCol w="2357640"/>
                <a:gridCol w="1998720"/>
                <a:gridCol w="2000160"/>
              </a:tblGrid>
              <a:tr h="3124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年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城镇低保补助（年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低保占收入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低保占消费水平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0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1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2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3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4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5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6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7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8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9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2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8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Welfare program in rural area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622440" y="1511280"/>
          <a:ext cx="7950240" cy="4243320"/>
        </p:xfrm>
        <a:graphic>
          <a:graphicData uri="http://schemas.openxmlformats.org/drawingml/2006/table">
            <a:tbl>
              <a:tblPr/>
              <a:tblGrid>
                <a:gridCol w="1592280"/>
                <a:gridCol w="2382840"/>
                <a:gridCol w="1987560"/>
                <a:gridCol w="1987560"/>
              </a:tblGrid>
              <a:tr h="6094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年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农村低保补助（年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低保占收入比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低保占消费支出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6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.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.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7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5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.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8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4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.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.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9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.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.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7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.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2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76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.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.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Great disparity among regions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60" name="图表 2" descr=""/>
          <p:cNvPicPr/>
          <p:nvPr/>
        </p:nvPicPr>
        <p:blipFill>
          <a:blip r:embed="rId1"/>
          <a:stretch/>
        </p:blipFill>
        <p:spPr>
          <a:xfrm>
            <a:off x="609480" y="1268280"/>
            <a:ext cx="826632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Great disparity among regions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62" name="图表 2" descr=""/>
          <p:cNvPicPr/>
          <p:nvPr/>
        </p:nvPicPr>
        <p:blipFill>
          <a:blip r:embed="rId1"/>
          <a:stretch/>
        </p:blipFill>
        <p:spPr>
          <a:xfrm>
            <a:off x="433440" y="1689120"/>
            <a:ext cx="831384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4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 Light"/>
              </a:rPr>
              <a:t>3</a:t>
            </a:r>
            <a:r>
              <a:rPr b="0" lang="zh-CN" sz="4800" spc="-1" strike="noStrike">
                <a:solidFill>
                  <a:srgbClr val="000000"/>
                </a:solidFill>
                <a:latin typeface="Calibri Light"/>
              </a:rPr>
              <a:t>、</a:t>
            </a:r>
            <a:r>
              <a:rPr b="0" lang="en-US" sz="4800" spc="-1" strike="noStrike">
                <a:solidFill>
                  <a:srgbClr val="000000"/>
                </a:solidFill>
                <a:latin typeface="Calibri Light"/>
              </a:rPr>
              <a:t>Policies mitigating income inequality in China?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22280" y="744480"/>
            <a:ext cx="8089920" cy="56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取消对市场准入的限制以及工作机会对不同人群的歧视性规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采取切实措施，保护低收入群体的劳动收入能力和资产收入能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保护财产权、提高环保、劳保标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建立兼容经济增长和收入分配的财税体制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财政收入：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将增值税率从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%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降为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开征环境税、遗产税与赠与税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推进个人所得税改革，实行综合所得纳税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财政支出：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将公共资源从硬件建设转向教育、医疗和科研等领域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将公共资源从“要素投入”型转向扩大收入分配项目的规模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更大方的失业保险体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社会救助体系：瞄准效率更高，标准更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Chart 3" descr=""/>
          <p:cNvPicPr/>
          <p:nvPr/>
        </p:nvPicPr>
        <p:blipFill>
          <a:blip r:embed="rId1"/>
          <a:stretch/>
        </p:blipFill>
        <p:spPr>
          <a:xfrm>
            <a:off x="225360" y="1054080"/>
            <a:ext cx="8785440" cy="5273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819000" y="6386400"/>
            <a:ext cx="305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资料来源：国家统计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Chinese Gini, (NSB)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398520" y="698400"/>
          <a:ext cx="8345520" cy="5762880"/>
        </p:xfrm>
        <a:graphic>
          <a:graphicData uri="http://schemas.openxmlformats.org/drawingml/2006/table">
            <a:tbl>
              <a:tblPr/>
              <a:tblGrid>
                <a:gridCol w="2012760"/>
                <a:gridCol w="1067040"/>
                <a:gridCol w="1190520"/>
                <a:gridCol w="4075200"/>
              </a:tblGrid>
              <a:tr h="51444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税收政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收入平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人均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GD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建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95256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3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提高总体税收收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*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税收对收入分配的影响主要体现在税收的水平、税种组合、以及税收使用方面；如果税收体系是激进的话，会促进收入平等化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*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提高税收会降低个人工作、储蓄和投资的积极性，进而不利于经济的增长；不过有些税种的副作用要小一些；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2372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在保持总体税收不变的情况下改变税种组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gridSpan="3"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88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将个人所得税转变为消费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*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相对于消费税，个人所得税属于激进税收；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*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个人所得税属于直接税收，会降低个人工作、储蓄以及投资的积极性，因此向间接性的消费税转变有利于提高人均收入；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57168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将工资税转向财产税和资本利得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在短期或中长期内，征收财产税对经济增长的副作用相对较小，因此将工资税转向财产税有利于提高个人工作、储蓄以及投资的积极性，进而提高整体产出；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7132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1. 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征收财产税税、遗产税和资本增值税；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*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财产税和遗产税属于激进税收；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*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财产税和遗产税对收入分配有着重要的作用；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8260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2. 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征收房地产税；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*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房地产税相对于财产税和遗产税属于一种温和型税收；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76212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降低税收支出和边际税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+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（大多数情况下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-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（工资信贷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*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除工资信贷外，大部分税收支出都有利于高收入群体，因此降低税收支出有利于缩小收入分配差距；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*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个人工资收入每增加以单位所需要缴纳的税收越低，其工作积极性越高；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95256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提高税收的激进性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个人所得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华文仿宋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提高税率；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华文仿宋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结合最低工资保障计划或免税津贴；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工资信贷有利于收入分配的缩小；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*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一方面，较高的个人所得税税率，会降低个人工作、学习、创新的积极性，进而导致个人工作时间的减少；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*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所得税的征收对人均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GDP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的影响尚不明确；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166" name="矩形 12"/>
          <p:cNvSpPr/>
          <p:nvPr/>
        </p:nvSpPr>
        <p:spPr>
          <a:xfrm>
            <a:off x="398520" y="6448320"/>
            <a:ext cx="683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71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华文仿宋"/>
              </a:rPr>
              <a:t>注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华文仿宋"/>
              </a:rPr>
              <a:t>+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华文仿宋"/>
              </a:rPr>
              <a:t>表示积极作用；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华文仿宋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华文仿宋"/>
              </a:rPr>
              <a:t>表示消极作用；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华文仿宋"/>
              </a:rPr>
              <a:t>~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华文仿宋"/>
              </a:rPr>
              <a:t>表示作用不明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华文仿宋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矩形 1"/>
          <p:cNvSpPr/>
          <p:nvPr/>
        </p:nvSpPr>
        <p:spPr>
          <a:xfrm>
            <a:off x="398520" y="196920"/>
            <a:ext cx="60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建立兼容经济增长和收入分配的财税体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4"/>
          <p:cNvSpPr/>
          <p:nvPr/>
        </p:nvSpPr>
        <p:spPr>
          <a:xfrm>
            <a:off x="819000" y="6386400"/>
            <a:ext cx="305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资料来源：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ld Ban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Chinese Gini, (World Bank data)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9" name="Chart 5" descr=""/>
          <p:cNvPicPr/>
          <p:nvPr/>
        </p:nvPicPr>
        <p:blipFill>
          <a:blip r:embed="rId1"/>
          <a:stretch/>
        </p:blipFill>
        <p:spPr>
          <a:xfrm>
            <a:off x="628560" y="1066680"/>
            <a:ext cx="7918560" cy="525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4"/>
          <p:cNvSpPr/>
          <p:nvPr/>
        </p:nvSpPr>
        <p:spPr>
          <a:xfrm>
            <a:off x="819000" y="6386400"/>
            <a:ext cx="365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资料来源：中国家庭收入不平等报告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Chinese Gini, Dr. Li Gan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030320" y="1098720"/>
          <a:ext cx="7237440" cy="4932360"/>
        </p:xfrm>
        <a:graphic>
          <a:graphicData uri="http://schemas.openxmlformats.org/drawingml/2006/table">
            <a:tbl>
              <a:tblPr/>
              <a:tblGrid>
                <a:gridCol w="1809720"/>
                <a:gridCol w="1809720"/>
                <a:gridCol w="1808280"/>
                <a:gridCol w="1809720"/>
              </a:tblGrid>
              <a:tr h="882360"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基尼系数城乡差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1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t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rb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i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1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dd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i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Chinese Gini, %, (Author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4" name="图表 2" descr=""/>
          <p:cNvPicPr/>
          <p:nvPr/>
        </p:nvPicPr>
        <p:blipFill>
          <a:blip r:embed="rId1"/>
          <a:stretch/>
        </p:blipFill>
        <p:spPr>
          <a:xfrm>
            <a:off x="628560" y="689040"/>
            <a:ext cx="7925040" cy="5724360"/>
          </a:xfrm>
          <a:prstGeom prst="rect">
            <a:avLst/>
          </a:prstGeom>
          <a:ln w="0">
            <a:noFill/>
          </a:ln>
        </p:spPr>
      </p:pic>
      <p:sp>
        <p:nvSpPr>
          <p:cNvPr id="65" name="TextBox 6"/>
          <p:cNvSpPr/>
          <p:nvPr/>
        </p:nvSpPr>
        <p:spPr>
          <a:xfrm>
            <a:off x="819000" y="6386400"/>
            <a:ext cx="416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资料来源：作者依据历年中国统计年鉴计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6"/>
          <p:cNvSpPr/>
          <p:nvPr/>
        </p:nvSpPr>
        <p:spPr>
          <a:xfrm>
            <a:off x="0" y="304920"/>
            <a:ext cx="712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me Inequalities in Urban area by province,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文本框 5"/>
          <p:cNvSpPr/>
          <p:nvPr/>
        </p:nvSpPr>
        <p:spPr>
          <a:xfrm>
            <a:off x="404640" y="6386400"/>
            <a:ext cx="404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注：山东、湖南、云南的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ini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系数缺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70000" y="839880"/>
          <a:ext cx="8545320" cy="5546520"/>
        </p:xfrm>
        <a:graphic>
          <a:graphicData uri="http://schemas.openxmlformats.org/drawingml/2006/table">
            <a:tbl>
              <a:tblPr/>
              <a:tblGrid>
                <a:gridCol w="1423800"/>
                <a:gridCol w="1424160"/>
                <a:gridCol w="1423800"/>
                <a:gridCol w="1425600"/>
                <a:gridCol w="1424160"/>
                <a:gridCol w="1423800"/>
              </a:tblGrid>
              <a:tr h="304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省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城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i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排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省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城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i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排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青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.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上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.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286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西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.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广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.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6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海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湖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.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6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宁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新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.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86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广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.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甘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.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7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浙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.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河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.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83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江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河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.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7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山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陕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6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黑龙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天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86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福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北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6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贵州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江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7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吉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安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86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内蒙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.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重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6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辽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山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86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四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.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湖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6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云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6"/>
          <p:cNvSpPr/>
          <p:nvPr/>
        </p:nvSpPr>
        <p:spPr>
          <a:xfrm>
            <a:off x="0" y="304920"/>
            <a:ext cx="872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me distribution worse off  in most of provinces from 2000-20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收入不平等恶化最为严重的前三各省份分别是：青海、上海、西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收入不平等改善地地区：新疆、天津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" name="图表 9"/>
          <p:cNvGraphicFramePr/>
          <p:nvPr/>
        </p:nvGraphicFramePr>
        <p:xfrm>
          <a:off x="233280" y="1222200"/>
          <a:ext cx="8466120" cy="5349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图表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280" y="1222200"/>
                    <a:ext cx="8466120" cy="534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8T07:31:38Z</dcterms:created>
  <dc:creator>吴施美</dc:creator>
  <dc:description/>
  <dc:language>en-US</dc:language>
  <cp:lastModifiedBy>zxy</cp:lastModifiedBy>
  <dcterms:modified xsi:type="dcterms:W3CDTF">2015-08-28T03:20:37Z</dcterms:modified>
  <cp:revision>106</cp:revision>
  <dc:subject/>
  <dc:title>PowerPoint Presentation</dc:title>
</cp:coreProperties>
</file>