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988-1321-4657-989E-3201C32B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85F-EB31-4AD5-857C-C61A7221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72B-6670-400B-8672-EA8484B8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480-2896-424E-BFFC-4B2E6A57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7F0-DD3B-485F-98D0-700DA2B8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032-0BF0-42A4-9E82-5685EF6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076-9503-4B0F-B46B-9260E6E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2D0-F414-4048-B3CB-C5F6854A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37D-796B-40A8-AC39-1FC2FDFA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9E5-C6BB-4764-87D6-625F4AB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E16-D877-4351-B6D7-B36137B7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CEE-2849-4298-91CA-503AAF7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B730-6D1C-4EBD-8DD1-B04C1F27A1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866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跨太平洋对接：发展中的中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rans Pacific Coorperation:</a:t>
            </a: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济关系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Economic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9400" y="4752720"/>
            <a:ext cx="64008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卫平 博士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ANG WEIPING (P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人民大学经济学院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莫奈讲座教授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JEAN MONNET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OF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RENMIN UNIVERSITY OF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phuang@netchina.com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384280" y="25560"/>
            <a:ext cx="34927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五位一体格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国家主席习近平在巴西与拉美领导人举行了具有里程碑意义会晤，习主席在会晤中倡议，共同构建中拉关系“五位一体”新格局，以作为中拉关系和整体合作未来发展的新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拉关系“五位一体”新格局，即政治上真诚互信、经贸上合作共赢、人文上互学互鉴、国际事务中密切协作、整体合作和双边关系相互促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+3+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作框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“一个规划” ： 即以实现包容性增长和可持续发展为目标，制定《中国与拉美和加勒比国家合作规划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5—20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“三大引擎” ：即以贸易、投资、金融合作为动力，推动中拉务实合作全面发展，力争实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内贸易规模达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美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“六大领域” ： 即以能源资源、基础设施建设、农业、制造业、科技创新、信息技术为合作重点，推进中拉产业对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X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作新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方提议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×3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作新模式，即共同建设物流、电力、信息三大通道；实现企业、社会、政府三者良性互动；拓展基金、信贷、保险三条融资渠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拉经贸务实合作、互利共赢的例子举不胜举，小到五金家电，大到千万吨大豆和矿产贸易；中国机械、电子、电信、银行纷纷落户拉美；太空、地球资源探测卫星、基因工程等科技合作步入正轨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作新模式的探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未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中拉合作领域将突破中非合作以能源和矿产资源为主的模式，找到新的“利益汇合点”。 中拉双方均已进入“中等收入阶段”，经济转型与升级、国家治理体系提升、可持续发展能力建设、生态环境治理、高新技术、基础设施等领域的合作潜力非常大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洋铁路”是拉美战略家们多年来梦寐以求的伟大目标，这条长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里的“干运河”一旦建成，将成为拉美历史上第一条横穿南美大陆的铁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两洋铁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洋铁路”堪称地标项目。这条铁路东起巴西大西洋之畔，向西穿越热带雨林进入秘鲁，最后翻越安第斯山到达太平洋东岸，被视为可避开美国所控巴拿马运河的新物流战略通道，并将带动拉美区域经济大发展，助力中拉经贸与投资大升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6440" y="682560"/>
            <a:ext cx="87710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两洋铁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克强总理的访问将“两洋铁路”项目继续稳步向前推进——中、巴、秘三方决定共同开展“两洋铁路”可行性研究，并一致同意加快三方联合工作组工作进度，争取该项目能够早日取得实质性进展，强调项目既要利发展，也要重环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互学互鉴的未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拉目前都遇到了经济增长的瓶颈，增速放缓，动力不足，以及来自外部的挑战，陷入中等收入陷阱的威胁，需要共同努力，互相学习长处，客服这种模式的短处，争取未来更为可持续的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力不足：未产生新消费、创新亮点，增长模式转换遇到困难，但新的经济周期威胁正在逼近，时不我待，以加强合作促进中拉的经济增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问题与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457200" y="2247840"/>
            <a:ext cx="4033800" cy="322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评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相互了解是一切的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人：知道玻利瓦尔、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格瓦拉、罗纳尔多？雪茄、《百年孤独》、桑巴舞？抑或是毒枭、“中等收入陷阱”“拉美化”？但这些远远不是完整而真实的拉丁美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样，拉美人对中国的认知也很模糊且充满误解，除了丝绸、香料、“苦力”，一直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，中国驻拉美的大使也还常被问到：中国男人是不是留着长辫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双方关系的进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中国颁布了《中国对拉丁美洲和加勒比政策文件》，文件的落实加深了中拉之间的政治互信，中国与拉美主要大国（巴西、墨西哥、阿根廷、委内瑞拉）的战略伙伴关系得到强化，与主要拉美新兴市场国家（阿根廷、巴西、墨西哥）在二十国集团等多边机制内保持密切磋商，双边关系中的战略性和多边性进一步扩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拉论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680" y="1012320"/>
            <a:ext cx="896472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和拉美、加勒比国家共同体论坛首届部长级会议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—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在北京举行。拉共体方面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成员国的外交部长或政府代表出席会议。 中国国家主席习近平、哥斯达黎加总统索利斯、厄瓜多尔总统科雷亚、委内瑞拉总统马杜罗、巴哈马总理克里斯蒂出席开幕式。习近平主席在开幕式上发表题为《共同谱写中拉全面合作伙伴关系新篇章》的重要讲话，提出四点建议：坚持平等相待的合作原则，坚持互利共赢的合作目标，坚持灵活务实的合作方式，坚持开放包容的合作精神。与会代表围绕“新平台、新起点、新机遇——共同努力推进中拉全面合作伙伴关系”的主题，进行坦诚深入的交流，达成了《中国—拉共体论坛首届部长级会议北京宣言》、《中国与拉美和加勒比国家合作规划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5—20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》和《中国—拉共体论坛机制设置和运行规则》三个成果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志合者，不以山海为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克强：“中国大大小小的河流，最终都汇集到太平洋，都是向东方流的，向拉美方向流的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中拉文化交流年活动，双方可探讨设立中拉文明对话机制并纳入中拉论坛轨道，协商设立中拉思想文化经典互译工程；办好首期中拉青年领导人培训交流营，适时推出中拉青年学者对话计划，增加中国高校西班牙语、葡萄牙语师生赴拉美国家培训奖学金名额，在双方人民之间搭起跨越太平洋的心灵之桥。截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中国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拉美国家开办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孔子学院，还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孔子课堂，另有一些国家正在筹办孔子学院。未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中方将向拉美和加勒比国家提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政府奖学金名额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拉美国家已成为中国公民出境游目的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贸易投资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1120" y="1417320"/>
            <a:ext cx="879984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显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197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拉贸易额仅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边贸易完成了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的飞跃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中拉贸易额达到创纪录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615.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20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贸易额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6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，同比增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8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中国已跃升拉美第二大贸易伙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商务部统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20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在拉美直接投资存量首次超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20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则达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占当年中国全部对外直接投资存量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.8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｡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对拉美非金融类直接投资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1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比增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2.9%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续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超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｡截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中国在拉美的项目合同金额超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美元，涵盖天然气、管道、电厂、道路、海港、住房、通信和铁路等多个方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互补的贸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拉美产品在中国同样获得了市场。巴西飞机制造、空调压缩机、客车等企业已经在中国落户，相互投资初具规模。中国从拉美不再是单纯进口基础产品，也从拉美采购附加值更高的产品。如中国最近从巴西进口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19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型支线飞机，总价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美元。阿根廷、巴西、墨西哥、秘鲁、智利等国的农产品也开始占据中国市场一席之地，丰富了中国人的餐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双方经贸关系进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320" y="1418760"/>
            <a:ext cx="888192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双边经贸合作的局限和问题，主要表现为贸易不平衡，中方顺差大；贸易和投资结构单一，进出口和投资双双多样性不足：中国大量进口拉美初级产品，特别是原材料，包括巴西石油、阿根廷大豆、智利和秘鲁的鱼类、铜矿，以及玻利维亚锂矿，中国则向拉美出口价廉物美的轻工业产品、成套设备和大型机械。联合国数据显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拉美对华出口品类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3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原材料。另有统计表明，这些对华出口货物仅限于上述言及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，而中国对拉美投资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间基本局限于矿产和油气相关的开采业。当然，这也不是中拉贸易全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截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中国在拉美的项目合同金额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美元，涵盖天然气、管道、电厂、道路、海港、住房、通信和铁路等多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近期高层交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，习近平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内对拉美地区进行了长时间、高密度访问，会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政要，提出“新起点、新远景和新动力 ”倡议，呼吁中拉在弘扬传统友好合作基础上共谱新曲，提出构建携手共进的命运共同体，得到拉方积极回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李克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拉美之旅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企业家同行，共访问和途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国家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城市，飞机起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，空中飞行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时，飞行距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公里，相当于绕地球赤道一周多，堪称其上任以来历时最长、行程最远和途经国家及城市最多的一次访问，辛苦劳顿可想而知。但是，这次访问斩获数十个合作项目、近千亿美元商业合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lenovo</dc:creator>
  <dc:description/>
  <dc:language>en-US</dc:language>
  <cp:lastModifiedBy>bianxiaoxiang</cp:lastModifiedBy>
  <dcterms:modified xsi:type="dcterms:W3CDTF">2015-08-27T12:53:0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